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gif" ContentType="image/gi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11705-B879-4294-B10E-FC45D2FD2D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23214-B400-4611-AC1E-D989F79548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53D15-7BD7-410A-B776-5F673A2835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D703F-3198-4486-85BA-525F74D9AB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C12B2-6CFE-45E5-842C-8272F2BCBD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93679-B3B5-419B-84CE-4AA13BDCC7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28955-9DFA-463B-A242-634E827F67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491EF-A1D2-4093-9949-8A86D671D2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682B7-278D-42BD-8C84-4EE0BF98D0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396DB-1B9E-439F-8F36-1639A5C5FE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DB380-63CE-4130-862A-3DA658678D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 10 : </a:t>
            </a: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18FA0-F56C-40D4-AE3D-0068B55B36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33012-4BCA-4719-880D-36E0A68152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54A20-2D46-42DC-9F61-8F1999B4C8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D4321-5FDE-45C3-A139-4D69B0EB37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9D7A-01B7-4D67-A9F7-B6898F112EA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0081-D3FE-408D-A45C-00FA568F8F6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CFD3-BFEA-46AE-9256-2A6F18BEF83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19A8-DE17-46FC-94F5-E5E635F1462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CCC1-86FF-4631-AD22-B1CE718E8F4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B296-5FAC-4E19-876F-69F97AE56E6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637E-9837-4F5D-8EB7-4FA6CAA92A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57F2A-E2BF-45B3-BFA7-3CFDAE9FD2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D4B5-AA9B-4EC5-888B-731D08496B7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33F4-E7B9-4477-9218-8CFAE573511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B12F-A7F0-4357-90FC-729C2BBFC53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A3F3-5739-41D3-8B73-592CE01AFD9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3330-E07C-4DC9-9599-ABB48063EC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321B9-2152-4432-A4AD-B80024FFE7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21289-C9AD-4A8D-A552-85F8525EC5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D8E9C-6C69-4D21-A5BC-BCB2CDAE3A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F7DCF-54EF-48FD-9A50-7AB92CC073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D2DB9-D65C-4AD8-9F88-F628D5BBBE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71420-98A9-4720-B361-6038AC2628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13122-4667-413E-A9B7-490A8F138F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3316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80990-5204-4FB6-BA0F-798A507B3B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8CF6C-A223-45CE-9097-CDBDA2FE58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EQA Scheme Organization</a:t>
            </a:r>
            <a:br>
              <a:rPr sz="5000"/>
            </a:b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A0F4-4B09-41D4-AFE7-66321CF0979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392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interests of th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ims and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fidentiality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cknowled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me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ADADA-D56C-4AAF-BD4F-74C716018BD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Moni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773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ries, feedback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ference” role of the EQA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s and recommendations from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participating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solving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recommending certai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90720" y="4267080"/>
            <a:ext cx="2514600" cy="1884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505320" y="4343400"/>
            <a:ext cx="5105160" cy="1641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erfect is not too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muc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74836-693D-400A-BBE3-425E856EA2B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0396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 already controlled by a international EQA organi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involve the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im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non-contaminating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good communication strate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ay careful attention to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12193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Verdana"/>
                <a:ea typeface="SimSun"/>
              </a:rPr>
              <a:t>Starting an EQA Program at count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7d"/>
                </a:solidFill>
                <a:latin typeface="Verdana"/>
                <a:ea typeface="SimSun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8A076-A436-4528-A7D4-374A2FC3F88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638680" y="20574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148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163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164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165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7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170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74"/>
              <p:cNvSpPr/>
              <p:nvPr/>
            </p:nvSpPr>
            <p:spPr>
              <a:xfrm>
                <a:off x="22654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173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174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179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184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188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191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197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200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203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97941-2B54-45C9-8B9F-9157265113E3}" type="slidenum">
              <a:t>13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tional proficiency testing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twork of laboratories – interlaboratory comparisons/reche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+/- on-site eval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CA79D-A979-455F-AFDF-49B8BA0C68B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rior Participation (and Success!) in a PT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22960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  <a:ea typeface="SimSun"/>
              </a:rPr>
              <a:t>need to subscribe to a foreign sche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monitor its own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mperative and oblig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 question of conf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F78C3-C619-4BB3-AFCC-15F1467E723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Involve the Autho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guarantees </a:t>
            </a:r>
            <a:r>
              <a:rPr b="0" lang="en-GB" sz="3200" spc="-1" strike="noStrike">
                <a:solidFill>
                  <a:srgbClr val="ff0066"/>
                </a:solidFill>
                <a:latin typeface="Verdana"/>
                <a:ea typeface="SimSun"/>
              </a:rPr>
              <a:t>dur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ed to the institution’s man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means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liaise with operating licensing / certification / accreditation / national reg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(EQA activities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reate savings,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them is worth 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400800" y="3962520"/>
            <a:ext cx="2133720" cy="21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A10AD-5BFC-4752-B176-B5DF143F09A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im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roficienc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, stained or uns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Gram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acid-fast bacilli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ara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identification of bacterial str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nteric microorganisms (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. coli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almonella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Rechec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 (AFB, Gram, CSF, oth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bacterial strains if materials and technical capability is present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 strain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2514600" cy="85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4952880" y="236232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E8050-D663-4C7D-A0B7-0E7816D5F8B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m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mall number of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ilot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verify transportation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4-5 laboratories for a test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(outside of the prog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first study with basic materials (sli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15 laboratories for the first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3 items per parcel (minimum 2 per ye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553080" y="1600200"/>
            <a:ext cx="2151360" cy="2590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rot="19759200">
            <a:off x="7238880" y="2209680"/>
            <a:ext cx="914400" cy="533520"/>
          </a:xfrm>
          <a:custGeom>
            <a:avLst/>
            <a:gdLst>
              <a:gd name="textAreaLeft" fmla="*/ 142920 w 914400"/>
              <a:gd name="textAreaRight" fmla="*/ 800280 w 9144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29B0D-B164-443F-939B-94F50FCFBC8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SimSun"/>
              </a:rPr>
              <a:t>Start with Non-Contaminating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n the beginning, avoid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dangerous” pathogen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ntaminated s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follow national transportation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172200" y="1905120"/>
            <a:ext cx="2590920" cy="228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826D1-CFAB-4210-AE06-9F8C73E0AFE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hysical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51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personal d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small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mmunic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105520" y="1622520"/>
            <a:ext cx="3352680" cy="251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F5A35-5FA9-4E3E-928C-EEDD4426BBF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15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articipating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uth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scientific 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rofessional assoc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ny other with interest in 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172200" y="1981080"/>
            <a:ext cx="2644920" cy="2819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858000" y="2590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EQ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089CE-A51B-48E0-8E1D-EEF148C5B65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14:54Z</dcterms:created>
  <dc:creator>sharon granade</dc:creator>
  <dc:description/>
  <dc:language>en-US</dc:language>
  <cp:lastModifiedBy>Robin Barteluk</cp:lastModifiedBy>
  <dcterms:modified xsi:type="dcterms:W3CDTF">2008-11-28T02:21:01Z</dcterms:modified>
  <cp:revision>12</cp:revision>
  <dc:subject/>
  <dc:title>EQA scheme Organization optional</dc:title>
</cp:coreProperties>
</file>